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5CA0B-8FDE-4352-88EF-04908C2D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48C76-D069-487D-93B9-277FE9E1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A7FC1-BD5D-49C4-8874-A8AEA099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5B13E-B2F7-4317-8F56-EE6A26A0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2ECB-BD4C-4D4D-9832-9B3319C6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2A81-E92A-4A9D-AE62-3CD83787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F90A-0C3D-4C7B-91A7-44235997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4C8A-BE14-41D0-8C38-A9A3E299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0C7F-B317-461A-8B8F-F13CB042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5538-3D2A-4410-9E0F-CE6F3DCD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6E17-313F-439E-A84A-6A5D911D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79801-E29D-4F52-ACB0-824E39C4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B440-3583-470A-B107-F95EBE28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9792-0FA3-4C3F-BC71-0992FEA7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807F-AF29-48AB-9DBF-09D18D5C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2D98-A0DC-4D64-B281-B9BFB856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4C08-251A-4BDB-A5BD-467564AF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4623-A668-4AD3-9C3B-50CDAAD1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714BB-9C82-422F-A0F4-B80694BA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4757B-AD0F-487A-B411-1A78EC4A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D8AA4-DAEC-4F42-A9F2-B2A2B818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A35DE-E3D8-4FFE-BE46-CE5DE29E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594D3-3F2F-4A29-AB6E-16CB5D53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030A7-64E4-4925-999B-03163F9F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3B5C-7BF9-4457-B007-06FEBF197B1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EF98-A08F-46EA-A169-E8CADFBA905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500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9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(960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Вижте как листата пада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пят сухи окол' нас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йте как ни поучава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м извикват като с глас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мъртни, дайте нам внимание, синове Адамов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приемете поучени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тина говорим ние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528120"/>
            <a:ext cx="1008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Вижте как животът тич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ремето ви има срок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ижте в нас пример и притча, вземайте от нас урок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ий с веселие, със песн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чате след сует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ние пред' малко бяхме росн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сме паднали сега!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27792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Може да ви окръжава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ук благата на свет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да не вя съблазняват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чко тук е суе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кто хвърка всяко лято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ъй прехожда тука вс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И земята, и небето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ходими са и те!"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27792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За дървото на живо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ий копнейте винаг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го желайте, защот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вечна пролет то цъфт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зобилен е плодът му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янката му весел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свеж, зелен е все листъ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у и не вехне никога!:]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2-08-03T15:57:37Z</dcterms:modified>
  <cp:revision>231</cp:revision>
  <dc:subject/>
  <dc:title>Slide 1</dc:title>
</cp:coreProperties>
</file>